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FB8B-0801-4559-8893-7A0B06768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199B-758D-414A-B989-2A0ADFE07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1A6-87BD-45F1-A631-9300BEE3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00F-71FB-445E-A139-A76CEB52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D1F-1F11-4010-A5C8-7B3578BC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1E8-0E0F-40C8-90E7-8611D1A8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E24A-51EB-40BD-BB40-1B43BA5C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0DB1-D460-4C6C-B045-AC419A56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66A5-D4F9-428B-A619-EC902C9D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DCBF-6C36-4CE3-8F9C-D3ECC45E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C461-74BF-4C66-8D92-2421ADEE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E1F6-8393-4757-BBB1-A061D564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DFFF-D527-450E-AA0C-4995E037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C65-A0D8-4614-96A6-97E914EE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DD90-8648-40B4-8ABE-19659477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0BE1-7AA7-4E22-BCCF-FA52A1BD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7D87-5496-430C-962E-C2BFB8ED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B71C-333E-4327-AA37-2C0DE4BA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BC5A-5FBC-423A-BBB8-9803593B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97B63-88AE-4148-A338-2F87BBBE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9B264-0413-4745-AFB7-A040A35B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36709-6787-43D9-BDB5-66A6EEE8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14A3-8758-498A-B471-E9B43B59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F3075-7AF2-4F54-B0FA-87102128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7F9A-466A-4266-8FC4-3D8DE84B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A70BE-747F-48F9-B28D-AB0F0D8F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9324E-14B1-40D7-879D-8F4E33EB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4EAF2-C757-4B73-8A65-51F1B280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14FD8-6678-41BF-AF9C-5BFDE3DB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59DB-9A68-4165-9066-A1A3B685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FAFFC-6582-4FFC-91B6-69BB64DE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290F0-07A7-4A87-8544-459B616E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F4428-5760-46EE-9C5C-ED9DD9A6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84565-414D-45F5-922F-D77A324F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47FCB-D9E3-4AAA-9F06-2218C8A5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1B53-5C5C-44CD-8462-087CF117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D3EB-BFD4-4CA1-9717-4ECFF2F7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8EAA1-68E6-4388-84FD-23B7A4D3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F11EB-7BF3-4755-BF6C-0F609883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508BF-850D-4802-A9AE-B0AB7842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5E914-EA3B-4A3A-8A0D-8D65A42B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CB71E-2126-4AF5-A236-96CBE82B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2D827-9AB0-4074-B9EC-2300D379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416EB-7318-40EF-AF4C-170C20BD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7FB2A-0447-45B2-9DE3-5E97DC51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710-CED2-47CB-A4B9-5FFFB1B0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7C64-0C6C-445C-94C0-93B4F4AE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45C-5413-494C-A06A-1AAD90C3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E97-FD54-41D9-8E72-9286169F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E04-4246-477B-87F9-1DC25979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FD24-BAA3-4B3D-87A4-745AB191DAA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F799-C9F2-4D1E-A610-B06533ACB44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8389-1D6D-4043-B36C-CAD31FE0A67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A1B9-E900-45DC-AF52-84F5882128F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onstantia"/>
              </a:rPr>
              <a:t>Japanese Technology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onstantia"/>
              </a:rPr>
              <a:t>by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onstantia"/>
              </a:rPr>
              <a:t>Matt and Natali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Content Placeholder 7" descr="800px-2007_Lexus_LF-A_concept.jpg"/>
          <p:cNvPicPr/>
          <p:nvPr/>
        </p:nvPicPr>
        <p:blipFill>
          <a:blip r:embed="rId1"/>
          <a:stretch/>
        </p:blipFill>
        <p:spPr>
          <a:xfrm>
            <a:off x="779400" y="1935000"/>
            <a:ext cx="7585200" cy="4389480"/>
          </a:xfrm>
          <a:prstGeom prst="rect">
            <a:avLst/>
          </a:prstGeom>
          <a:ln w="0">
            <a:noFill/>
          </a:ln>
        </p:spPr>
      </p:pic>
      <p:pic>
        <p:nvPicPr>
          <p:cNvPr id="204" name="~PP814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4617b"/>
                </a:solidFill>
                <a:latin typeface="Calibri"/>
              </a:rPr>
              <a:t>WHY DIDN’T ANYONE TELL ME THAT THESE CAME IN RAINBOW COLOUR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=(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Placeholder 4" descr="newvthomepic.jpeg"/>
          <p:cNvPicPr/>
          <p:nvPr/>
        </p:nvPicPr>
        <p:blipFill>
          <a:blip r:embed="rId1"/>
          <a:srcRect l="13858" t="0" r="13858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41" name="~PP1141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mic Sans MS"/>
              </a:rPr>
              <a:t>I love this show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Placeholder 4" descr="300_110486.gif"/>
          <p:cNvPicPr/>
          <p:nvPr/>
        </p:nvPicPr>
        <p:blipFill>
          <a:blip r:embed="rId1"/>
          <a:srcRect l="5946" t="0" r="5946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45" name="~PP719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アシモ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(ASIMO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Content Placeholder 3" descr="450px-HONDA_ASIMO.jpg"/>
          <p:cNvPicPr/>
          <p:nvPr/>
        </p:nvPicPr>
        <p:blipFill>
          <a:blip r:embed="rId1"/>
          <a:stretch/>
        </p:blipFill>
        <p:spPr>
          <a:xfrm>
            <a:off x="2925720" y="1935000"/>
            <a:ext cx="3292560" cy="4389480"/>
          </a:xfrm>
          <a:prstGeom prst="rect">
            <a:avLst/>
          </a:prstGeom>
          <a:ln w="0">
            <a:noFill/>
          </a:ln>
        </p:spPr>
      </p:pic>
      <p:pic>
        <p:nvPicPr>
          <p:cNvPr id="248" name="~PP1696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AIBO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A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tificial </a:t>
            </a: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I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ntelligence Ro</a:t>
            </a: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BO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Content Placeholder 3" descr="aibo.jpg"/>
          <p:cNvPicPr/>
          <p:nvPr/>
        </p:nvPicPr>
        <p:blipFill>
          <a:blip r:embed="rId1"/>
          <a:stretch/>
        </p:blipFill>
        <p:spPr>
          <a:xfrm>
            <a:off x="2558880" y="1935000"/>
            <a:ext cx="4026240" cy="4389480"/>
          </a:xfrm>
          <a:prstGeom prst="rect">
            <a:avLst/>
          </a:prstGeom>
          <a:ln w="0">
            <a:noFill/>
          </a:ln>
        </p:spPr>
      </p:pic>
      <p:pic>
        <p:nvPicPr>
          <p:cNvPr id="251" name="~PP1037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cial Robo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Content Placeholder 3" descr="100531.jpg"/>
          <p:cNvPicPr/>
          <p:nvPr/>
        </p:nvPicPr>
        <p:blipFill>
          <a:blip r:embed="rId1"/>
          <a:stretch/>
        </p:blipFill>
        <p:spPr>
          <a:xfrm>
            <a:off x="1952640" y="1947960"/>
            <a:ext cx="5238720" cy="4362480"/>
          </a:xfrm>
          <a:prstGeom prst="rect">
            <a:avLst/>
          </a:prstGeom>
          <a:ln w="0">
            <a:noFill/>
          </a:ln>
        </p:spPr>
      </p:pic>
      <p:pic>
        <p:nvPicPr>
          <p:cNvPr id="254" name="~PP3594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uard Robo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Content Placeholder 3" descr="610x.jpg"/>
          <p:cNvPicPr/>
          <p:nvPr/>
        </p:nvPicPr>
        <p:blipFill>
          <a:blip r:embed="rId1"/>
          <a:stretch/>
        </p:blipFill>
        <p:spPr>
          <a:xfrm>
            <a:off x="1666800" y="2011320"/>
            <a:ext cx="5810400" cy="4238640"/>
          </a:xfrm>
          <a:prstGeom prst="rect">
            <a:avLst/>
          </a:prstGeom>
          <a:ln w="0">
            <a:noFill/>
          </a:ln>
        </p:spPr>
      </p:pic>
      <p:pic>
        <p:nvPicPr>
          <p:cNvPr id="257" name="~PP3462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ABOT-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Content Placeholder 3" descr="wabot1.jpg"/>
          <p:cNvPicPr/>
          <p:nvPr/>
        </p:nvPicPr>
        <p:blipFill>
          <a:blip r:embed="rId1"/>
          <a:stretch/>
        </p:blipFill>
        <p:spPr>
          <a:xfrm>
            <a:off x="3089160" y="1935000"/>
            <a:ext cx="2965680" cy="4389480"/>
          </a:xfrm>
          <a:prstGeom prst="rect">
            <a:avLst/>
          </a:prstGeom>
          <a:ln w="0">
            <a:noFill/>
          </a:ln>
        </p:spPr>
      </p:pic>
      <p:pic>
        <p:nvPicPr>
          <p:cNvPr id="260" name="~PP668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"/>
          <p:cNvSpPr/>
          <p:nvPr/>
        </p:nvSpPr>
        <p:spPr>
          <a:xfrm>
            <a:off x="1447920" y="2209680"/>
            <a:ext cx="647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nstantia"/>
              </a:rPr>
              <a:t>GO JAPAN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3048120" y="411480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Wait a few second’s for a surprise from Matt.  =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~PP757.WAV" descr=""/>
          <p:cNvPicPr/>
          <p:nvPr/>
        </p:nvPicPr>
        <p:blipFill>
          <a:blip r:embed="rId1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Rick Astley - Never gonna give you up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14960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Matthew\Desktop\Jap Project Pics\niss_r35_v_shinkansen.jpg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5181840"/>
          </a:xfrm>
          <a:prstGeom prst="rect">
            <a:avLst/>
          </a:prstGeom>
          <a:ln w="0">
            <a:noFill/>
          </a:ln>
        </p:spPr>
      </p:pic>
      <p:pic>
        <p:nvPicPr>
          <p:cNvPr id="206" name="~PP2287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新幹線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onstantia"/>
                <a:ea typeface="ＭＳ Ｐゴシック"/>
              </a:rPr>
              <a:t>(Bullet train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Documents and Settings\Matthew\Desktop\Jap Project Pics\500.shinkansen.jpg"/>
          <p:cNvPicPr/>
          <p:nvPr/>
        </p:nvPicPr>
        <p:blipFill>
          <a:blip r:embed="rId2"/>
          <a:stretch/>
        </p:blipFill>
        <p:spPr>
          <a:xfrm>
            <a:off x="457200" y="1905120"/>
            <a:ext cx="7467480" cy="4495680"/>
          </a:xfrm>
          <a:prstGeom prst="rect">
            <a:avLst/>
          </a:prstGeom>
          <a:ln w="0">
            <a:noFill/>
          </a:ln>
        </p:spPr>
      </p:pic>
      <p:pic>
        <p:nvPicPr>
          <p:cNvPr id="210" name="~PP3303.WAV" descr=""/>
          <p:cNvPicPr/>
          <p:nvPr/>
        </p:nvPicPr>
        <p:blipFill>
          <a:blip r:embed="rId3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Tokaido Shinkans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Content Placeholder 3" descr="n700_nose.jpg"/>
          <p:cNvPicPr/>
          <p:nvPr/>
        </p:nvPicPr>
        <p:blipFill>
          <a:blip r:embed="rId1"/>
          <a:stretch/>
        </p:blipFill>
        <p:spPr>
          <a:xfrm>
            <a:off x="1089000" y="2003400"/>
            <a:ext cx="6966000" cy="4253040"/>
          </a:xfrm>
          <a:prstGeom prst="rect">
            <a:avLst/>
          </a:prstGeom>
          <a:ln w="0">
            <a:noFill/>
          </a:ln>
        </p:spPr>
      </p:pic>
      <p:pic>
        <p:nvPicPr>
          <p:cNvPr id="213" name="~PP3014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pular Japanese Ca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mart C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Nissan Cub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C:\Documents and Settings\Matthew\Desktop\Jap Project Pics\smart-car.jpg"/>
          <p:cNvPicPr/>
          <p:nvPr/>
        </p:nvPicPr>
        <p:blipFill>
          <a:blip r:embed="rId1"/>
          <a:stretch/>
        </p:blipFill>
        <p:spPr>
          <a:xfrm>
            <a:off x="457200" y="2438280"/>
            <a:ext cx="4138560" cy="4038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Documents and Settings\Matthew\Desktop\Jap Project Pics\nissan-cube-1.jpg"/>
          <p:cNvPicPr/>
          <p:nvPr/>
        </p:nvPicPr>
        <p:blipFill>
          <a:blip r:embed="rId2"/>
          <a:stretch/>
        </p:blipFill>
        <p:spPr>
          <a:xfrm>
            <a:off x="4724280" y="2438280"/>
            <a:ext cx="4038840" cy="3810240"/>
          </a:xfrm>
          <a:prstGeom prst="rect">
            <a:avLst/>
          </a:prstGeom>
          <a:ln w="0">
            <a:noFill/>
          </a:ln>
        </p:spPr>
      </p:pic>
      <p:pic>
        <p:nvPicPr>
          <p:cNvPr id="221" name="~PP3817.WAV" descr=""/>
          <p:cNvPicPr/>
          <p:nvPr/>
        </p:nvPicPr>
        <p:blipFill>
          <a:blip r:embed="rId3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xtreme Custom Japanese Vans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nstantia"/>
              </a:rPr>
              <a:t>Cosmic Space V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9632"/>
                </a:solidFill>
                <a:latin typeface="Constantia"/>
              </a:rPr>
              <a:t>Banana Van on Steroi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Content Placeholder 7" descr="Custom-Van-Crazy-1.jpg"/>
          <p:cNvPicPr/>
          <p:nvPr/>
        </p:nvPicPr>
        <p:blipFill>
          <a:blip r:embed="rId1"/>
          <a:stretch/>
        </p:blipFill>
        <p:spPr>
          <a:xfrm>
            <a:off x="907920" y="2514600"/>
            <a:ext cx="3138480" cy="3846600"/>
          </a:xfrm>
          <a:prstGeom prst="rect">
            <a:avLst/>
          </a:prstGeom>
          <a:ln w="0">
            <a:noFill/>
          </a:ln>
        </p:spPr>
      </p:pic>
      <p:pic>
        <p:nvPicPr>
          <p:cNvPr id="226" name="Content Placeholder 8" descr="japanese_extreme_truck_mods.jpg"/>
          <p:cNvPicPr/>
          <p:nvPr/>
        </p:nvPicPr>
        <p:blipFill>
          <a:blip r:embed="rId2"/>
          <a:stretch/>
        </p:blipFill>
        <p:spPr>
          <a:xfrm>
            <a:off x="5477040" y="3441600"/>
            <a:ext cx="2377800" cy="1992240"/>
          </a:xfrm>
          <a:prstGeom prst="rect">
            <a:avLst/>
          </a:prstGeom>
          <a:ln w="0">
            <a:noFill/>
          </a:ln>
        </p:spPr>
      </p:pic>
      <p:pic>
        <p:nvPicPr>
          <p:cNvPr id="227" name="~PP1317.WAV" descr=""/>
          <p:cNvPicPr/>
          <p:nvPr/>
        </p:nvPicPr>
        <p:blipFill>
          <a:blip r:embed="rId3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Matthew\Desktop\Jap Project Pics\w44s_1.jpg"/>
          <p:cNvPicPr/>
          <p:nvPr/>
        </p:nvPicPr>
        <p:blipFill>
          <a:blip r:embed="rId1"/>
          <a:stretch/>
        </p:blipFill>
        <p:spPr>
          <a:xfrm>
            <a:off x="2514600" y="1219320"/>
            <a:ext cx="4286160" cy="4133880"/>
          </a:xfrm>
          <a:prstGeom prst="rect">
            <a:avLst/>
          </a:prstGeom>
          <a:ln w="0">
            <a:noFill/>
          </a:ln>
        </p:spPr>
      </p:pic>
      <p:pic>
        <p:nvPicPr>
          <p:cNvPr id="229" name="~PP1435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WARN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88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o not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ev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allenge a Japanese or Chinese man/women to a game of Starcraft.  You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get owne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Placeholder 4" descr="starcraft-front.jpg"/>
          <p:cNvPicPr/>
          <p:nvPr/>
        </p:nvPicPr>
        <p:blipFill>
          <a:blip r:embed="rId1"/>
          <a:srcRect l="0" t="19" r="0" b="19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33" name="~PP1213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Kickin i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LDSCHOO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Placeholder 4" descr="rcc-446f1b557845awalkman.jpg"/>
          <p:cNvPicPr/>
          <p:nvPr/>
        </p:nvPicPr>
        <p:blipFill>
          <a:blip r:embed="rId1"/>
          <a:srcRect l="0" t="5752" r="0" b="575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37" name="~PP1842.WAV" descr=""/>
          <p:cNvPicPr/>
          <p:nvPr/>
        </p:nvPicPr>
        <p:blipFill>
          <a:blip r:embed="rId2"/>
          <a:stretch/>
        </p:blipFill>
        <p:spPr>
          <a:xfrm>
            <a:off x="8724960" y="643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21:48:31Z</dcterms:created>
  <dc:creator>Steven and Matthew</dc:creator>
  <dc:description/>
  <dc:language>en-US</dc:language>
  <cp:lastModifiedBy>Steven and Matthew</cp:lastModifiedBy>
  <dcterms:modified xsi:type="dcterms:W3CDTF">2008-11-14T05:08:21Z</dcterms:modified>
  <cp:revision>97</cp:revision>
  <dc:subject/>
  <dc:title>Slide 1</dc:title>
</cp:coreProperties>
</file>